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7C0-2574-4300-9165-BD7620F5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1B2-01F8-48B0-8C34-7D8BEDD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C66-4C3D-41A8-BD50-AFE9992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F4B-CA9C-425C-9722-A7D190F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938-B39A-4584-B441-60A19D6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E39-092C-49F9-951E-817674E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3AC-8623-496C-8D00-BF3D6B6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5A6-01A7-45B2-81C1-29C89B1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8C5-033B-4A41-9458-F0D37895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44E-947E-41EA-80AF-B867A3F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6F7-F60C-4A50-B9CC-C478290D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F30-7A40-4A33-BE73-2BD9871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C2DE-54A3-4E2F-8683-5FF19215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ha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1752480"/>
            <a:ext cx="4415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bout Me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5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Bo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st Hated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You Know All My Business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m Good A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good Sportsman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people L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rite Websites Includ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Foods Ar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hpatatoes and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ts and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 chicken and noo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Teachers A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362320"/>
            <a:ext cx="304920" cy="228600"/>
          </a:xfrm>
          <a:custGeom>
            <a:avLst/>
            <a:gdLst>
              <a:gd name="textAreaLeft" fmla="*/ 71640 w 304920"/>
              <a:gd name="textAreaRight" fmla="*/ 233280 w 30492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I Could I W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 time and graduate from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myself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that pretty dress from Pet Co. for Lala (my d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10 Years I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ave a good paying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e 1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rite Artist/Athletes Ar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 W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 Boos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ces I Have To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ug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g Da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ky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1:28Z</dcterms:created>
  <dc:creator>004student</dc:creator>
  <dc:description/>
  <dc:language>en-US</dc:language>
  <cp:lastModifiedBy>004student</cp:lastModifiedBy>
  <dcterms:modified xsi:type="dcterms:W3CDTF">2008-10-22T16:01:44Z</dcterms:modified>
  <cp:revision>5</cp:revision>
  <dc:subject/>
  <dc:title>Slide 1</dc:title>
</cp:coreProperties>
</file>